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754-8A51-4E66-9BD6-8A1177F8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34F-DE23-47EB-8C95-25C0EE12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58A-A6FD-4729-BE52-FC70A941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3BA-2D31-40B5-A88D-EA4D55EA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B877-8FDE-49EB-B4BA-41EFA266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20F3-469B-4A65-AD63-F5BA1590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5D3D-8EBE-49C5-9D7D-3889070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3810-3930-456C-B9E9-D4C0C82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3A7B-873C-449E-9D2B-9D04752C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B57E-78E1-4F97-BD50-F221E8A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CD1A-D989-4FA8-A378-1015261A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12A-0871-4105-9E60-7A3B0475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F31F-55A6-4BA4-B396-455692A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01C1-6AD6-4C88-AB8D-5CAB0276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D48-D0DF-4E41-B96D-6876EA8A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839-8983-47E7-89AA-CA020AA5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654-1913-4C29-BDF2-0CAC413B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461-5EB8-4F76-901E-58021EE3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170-44DD-4FE9-B91B-EDD715F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68D-4D7D-48CB-9DA4-F2AE4A1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294-1B6E-4FA1-92F6-32CA4DE8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8B0-A4AB-4E1A-B923-025F948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2CB-EBDF-4317-9ADF-37BF5555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BCD-890D-49DF-B5C2-2F24413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356C-FF84-4813-98CE-34F734E2BA6C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307B-AE80-47FE-A035-CA07E81E81E3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87" name="Blepharisma ciliate  Contractile Vacuole in Action.avi" descr=""/>
          <p:cNvPicPr/>
          <p:nvPr/>
        </p:nvPicPr>
        <p:blipFill>
          <a:blip r:embed="rId1"/>
          <a:stretch/>
        </p:blipFill>
        <p:spPr>
          <a:xfrm>
            <a:off x="539640" y="0"/>
            <a:ext cx="77090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89" name="Year 7 sci The Role of Red Blood Cells in Anemia.mp4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0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Animal 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re are many different types of cells in a multicellular organism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 human is made up of more than 20 different cell types, each with a specific func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26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tick the handout in your book, and then summarise each by f</a:t>
            </a: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illing in the following table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2276640"/>
          <a:ext cx="7993080" cy="3781440"/>
        </p:xfrm>
        <a:graphic>
          <a:graphicData uri="http://schemas.openxmlformats.org/drawingml/2006/table">
            <a:tbl>
              <a:tblPr/>
              <a:tblGrid>
                <a:gridCol w="2160720"/>
                <a:gridCol w="5832360"/>
              </a:tblGrid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Cell Typ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Details (eg size, function, location etc)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Nerv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Muscl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Red Blood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Bon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Lung Epithelia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Adipos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Skin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Sperm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Egg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Hamstring Tear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5" name="DavidBolinsky_2007.mp4" descr=""/>
          <p:cNvPicPr/>
          <p:nvPr/>
        </p:nvPicPr>
        <p:blipFill>
          <a:blip r:embed="rId1"/>
          <a:stretch/>
        </p:blipFill>
        <p:spPr>
          <a:xfrm>
            <a:off x="198360" y="1557360"/>
            <a:ext cx="8704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Hamstring Repair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7" name="ATS Hamstring Repair.mov.avi" descr=""/>
          <p:cNvPicPr/>
          <p:nvPr/>
        </p:nvPicPr>
        <p:blipFill>
          <a:blip r:embed="rId1"/>
          <a:stretch/>
        </p:blipFill>
        <p:spPr>
          <a:xfrm>
            <a:off x="322200" y="1628640"/>
            <a:ext cx="8583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Read the handout and complete the following question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 all living things have in common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is a eukaryote and a prokaryote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es a cell membrane d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6-02T10:39:57Z</dcterms:modified>
  <cp:revision>55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